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13E3-3565-43F4-A337-6CAC96AB1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6405-E83F-4A8A-A689-011E1029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35B3-0F43-4899-8780-3D0ECB21D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4096-7A0C-45AD-A56E-19DFA37D9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F071-2CFD-42F8-942A-B7AE40E0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3160-7F44-4665-87E9-4D02B608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BFD5-906F-4D32-B8C8-D9B84CEF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F8B6-EFB9-4845-9CD5-C18B1DA2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BDE8-9D6C-4733-84E5-A9359772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3E96-609C-4DC5-9456-955E90D2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28D0-6200-499A-8F3C-0CD4B6F9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F35F-03D2-48BF-A0DD-84EB8ABD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FBF6-2021-47B2-BA80-56B6AC435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HH01691_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2743200"/>
            <a:ext cx="3090600" cy="1981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71800" y="3048120"/>
            <a:ext cx="259092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Matt LO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étective Priv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La Discrétion en p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ntactez-moi au 06-57-35-54-78 ou au 01-43-13-70-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43200" y="2743200"/>
            <a:ext cx="320040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8T16:36:37Z</dcterms:created>
  <dc:creator>Pavilion Notebook User</dc:creator>
  <dc:description/>
  <dc:language>en-US</dc:language>
  <cp:lastModifiedBy>austin powers</cp:lastModifiedBy>
  <dcterms:modified xsi:type="dcterms:W3CDTF">2002-05-27T20:40:22Z</dcterms:modified>
  <cp:revision>4</cp:revision>
  <dc:subject/>
  <dc:title>Présentation PowerPoint</dc:title>
</cp:coreProperties>
</file>